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4058-47E8-4A27-8115-30D255032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es of bullies are: cyber, social, physical, verbal. Alcohol and drugs make you feel good for the moment but long term, they’ll be the death of you. Drama: I know there is allot of it (especially amongst teens) but its NOT worth dying for. Sexual orientation: how can you say you want acceptance when you can’t accept yourself? Come out the closet or stop compl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basic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DFAF-6612-4D52-8C9D-F6F76DC3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9E0-315D-4CC1-8C6A-484DC955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73F-E834-4762-9234-723A1FFB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D05-4258-4ED1-BB57-18A33DC8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603-8088-4E73-A22C-08A2B3E4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1A9-6D46-4937-981B-038C686C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77F-DA42-4C84-ACAC-4CBE3A9E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509-1092-42B5-8BB0-8053EAA2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E9B-4E9A-49EB-B116-870007EB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5B6-2C77-4CB6-B91B-16A4A166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9BB-0B20-44A6-AF94-ED320B0B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E1F-83D5-46EC-8C80-7E7BCFD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22E3-6D6E-40C1-B679-A3E8E30D5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piration: Reasons to l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mine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is born must eventually die, that is the law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may not always be what you would expect or hope for, but it’s something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is not simply being temporarily sad. What was once thought to be demonic possession when the world was young is now classified as an illness of the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 and drug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 and 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2581560" cy="220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76720" y="4114800"/>
            <a:ext cx="1793880" cy="238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486400" y="4114800"/>
            <a:ext cx="2895480" cy="220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72200" y="2133720"/>
            <a:ext cx="1835280" cy="1231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ronic) Dysthmic Disorder-less sever, long term, and keeps people from performing/function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polar-mood shifts throughout day and can’t be cheere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-(most common) it makes you not be able to enjoy the good things in life including work, and sleep. Also you may lose or gain we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ssion and even depression medication can lead to suicide so consult a doctor before taking any anti-depressants especially if breastfeeding or recently had a surgery. If you get worse or have thoughts of suicide, you should discontinue use immed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ore information go to: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http://www.depression-guide.com/types-of-depressio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omnia (over and under sleep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s of death and sui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may vary depending on the person and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140976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lives must die eventually, but that doesn’t mean you should rus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prevented, the person will say or do things that should put up red flags in your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asy to deal with but…don’t let the guilt eat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ways to help yourself, a friend, or a family member fight their depression. Here are a few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healthy socia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drinking and/or consuming drugs (reh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 up to bu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Name at least 2 types of bul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causes for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ways to help someone with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Good Jo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8:44:39Z</dcterms:created>
  <dc:creator>CEC 140</dc:creator>
  <dc:description/>
  <dc:language>en-US</dc:language>
  <cp:lastModifiedBy>CEC 140</cp:lastModifiedBy>
  <dcterms:modified xsi:type="dcterms:W3CDTF">2013-03-26T18:11:32Z</dcterms:modified>
  <cp:revision>7</cp:revision>
  <dc:subject/>
  <dc:title>Inspiration: Reasons to live</dc:title>
</cp:coreProperties>
</file>