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EE80-31BC-4213-88D0-2E3ED800B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ypes of bullies are: cyber, social, physical, verbal. Alcohol and drugs make you feel good for the moment but long term, they’ll be the death of you. Drama: I know there is allot of it (especially amongst teens) but its NOT worth dying for. Sexual orientation: how can you say you want acceptance when you can’t accept yourself? Come out the closet or stop complain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just the basic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6FF8-2F54-44BA-BD35-FE0FA043A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8B95-0438-4A26-8600-3FF9FF2B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CAFB-E6DE-4080-8498-F29AB4FEC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B6C2-02BC-479C-8BB5-94E89B399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7A73-F758-4F81-8D66-C7374FBB9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71ED-A124-433E-A256-00320B59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ADD-3EA1-4D68-BCB2-643F1C6A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7F4-FACC-47D6-82DF-F5778462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0A71-72BE-4121-B6A8-A3AA3BBF2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3594-D2EB-47FC-ABF4-7FB7C4FF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31C-A2F1-4C0E-9040-CC8C58E9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E14-AD2C-4493-A81B-EEB0390A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6E80-ADBC-4103-AADC-C6A7C5D2A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spiration: Reasons to l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asmine Mo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is born must eventually die, that is the law of lif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fe may not always be what you would expect or hope for, but it’s something beautifu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ssion is not simply being temporarily sad. What was once thought to be demonic possession when the world was young is now classified as an illness of the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a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ll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cohol and drug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gnancy and 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xual Ori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80880" y="4267080"/>
            <a:ext cx="2581560" cy="2203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76720" y="4114800"/>
            <a:ext cx="1793880" cy="2381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5486400" y="4114800"/>
            <a:ext cx="2895480" cy="2201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6172200" y="2133720"/>
            <a:ext cx="1835280" cy="1231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pression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Chronic) Dysthmic Disorder-less sever, long term, and keeps people from performing/function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polar-mood shifts throughout day and can’t be cheered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jor-(most common) it makes you not be able to enjoy the good things in life including work, and sleep. Also you may lose or gain weig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pression and even depression medication can lead to suicide so consult a doctor before taking any anti-depressants especially if breastfeeding or recently had a surgery. If you get worse or have thoughts of suicide, you should discontinue use immediate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more information go to: </a:t>
            </a: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http://www.depression-guide.com/types-of-depression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543800" y="3808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ympto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mpti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ti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ing dis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somnia (over and under sleep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oughts of death and sui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mptoms may vary depending on the person and 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191120" y="1409760"/>
            <a:ext cx="2666880" cy="2057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ic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thing that lives must die eventually, but that doesn’t mean you should rush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can be prevented, the person will say or do things that should put up red flags in your m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easy to deal with but…don’t let the guilt eat at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ways to help yourself, a friend, or a family member fight their depression. Here are a few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ild healthy social relatio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drinking and/or consuming drugs (reha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 up to bul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Name at least 2 types of bul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causes for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is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What are some ways to help someone with depr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Arial"/>
              </a:rPr>
              <a:t>Good Job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18:44:39Z</dcterms:created>
  <dc:creator>CEC 140</dc:creator>
  <dc:description/>
  <dc:language>en-US</dc:language>
  <cp:lastModifiedBy>CEC 140</cp:lastModifiedBy>
  <dcterms:modified xsi:type="dcterms:W3CDTF">2013-03-26T18:11:32Z</dcterms:modified>
  <cp:revision>7</cp:revision>
  <dc:subject/>
  <dc:title>Inspiration: Reasons to live</dc:title>
</cp:coreProperties>
</file>