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DA5E-9B20-4492-B41D-9A3C173C2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es of bullies are: cyber, social, physical, verbal. Alcohol and drugs make you feel good for the moment but long term, they’ll be the death of you. Drama: I know there is allot of it (especially amongst teens) but its NOT worth dying for. Sexual orientation: how can you say you want acceptance when you can’t accept yourself? Come out the closet or stop complai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basic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AD4-1C67-4FBB-BEAB-8B77C250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8B3-A533-477D-8D66-F52DC881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BA7-FD1D-4A0B-9DCA-7B8C395F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BA4-0338-436F-817A-F1243554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2D2-1430-4093-8F57-C79362B2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409-21A9-4170-9D6A-10F572BF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87C-C4A1-472C-9198-8537157F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B03-4C08-4170-AAF1-C109ADA4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86D-97D8-4FC0-B28E-C233F900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0BE-6F2C-48E8-8C23-57129444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179-B95A-46D1-906F-901DE09A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9DD-1A35-4545-B867-1FB30249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EC16-41A7-4E4D-BDC3-73D8AC049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piration: Reasons to l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mine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that is born must eventually die, that is the law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may not always be what you would expect or hope for, but it’s something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 is not simply being temporarily sad. What was once thought to be demonic possession when the world was young is now classified as an illness of the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 and drug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 and 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2581560" cy="2203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76720" y="4114800"/>
            <a:ext cx="1793880" cy="2381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486400" y="4114800"/>
            <a:ext cx="2895480" cy="220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72200" y="2133720"/>
            <a:ext cx="1835280" cy="1231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ress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hronic) Dysthmic Disorder-less sever, long term, and keeps people from performing/function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polar-mood shifts throughout day and can’t be cheere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-(most common) it makes you not be able to enjoy the good things in life including work, and sleep. Also you may lose or gain we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ssion and even depression medication can lead to suicide so consult a doctor before taking any anti-depressants especially if breastfeeding or recently had a surgery. If you get worse or have thoughts of suicide, you should discontinue use immedi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ore information go to: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http://www.depression-guide.com/types-of-depressio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4380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omnia (over and under sleep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s of death and sui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may vary depending on the person and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140976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c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that lives must die eventually, but that doesn’t mean you should rus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prevented, the person will say or do things that should put up red flags in your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asy to deal with but…don’t let the guilt eat a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ways to help yourself, a friend, or a family member fight their depression. Here are a few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healthy socia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drinking and/or consuming drugs (reh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 up to bul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Name at least 2 types of bul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are some causes for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is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are some ways to help someone with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Good Jo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8:44:39Z</dcterms:created>
  <dc:creator>CEC 140</dc:creator>
  <dc:description/>
  <dc:language>en-US</dc:language>
  <cp:lastModifiedBy>CEC 140</cp:lastModifiedBy>
  <dcterms:modified xsi:type="dcterms:W3CDTF">2013-03-26T18:11:32Z</dcterms:modified>
  <cp:revision>7</cp:revision>
  <dc:subject/>
  <dc:title>Inspiration: Reasons to live</dc:title>
</cp:coreProperties>
</file>